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BF8A-82EF-499D-9B8B-51DCD6D4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E4F9-01E8-4B36-9620-255C38B4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B094D-CA07-4CB8-B910-F8F419D7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46B73-9BEE-4CF8-828B-E061ED69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51819B-BED9-43B7-B296-8BD8B96C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A1D5E-B4CD-4F7D-BBA6-BEEC41F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B1CF97-1EDE-41FA-8B04-4BBB6CF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EE8EC-5085-4BC0-AE36-5D3EC0B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D1F69-933E-4D97-9097-7EA4A78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3B18B-8CEA-4B2A-A458-41654C88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8E4C7-FA7B-4100-9761-FD6DCD62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6EC62F-8179-439C-8FBF-D7DFC147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C5CE-6F1E-45D1-A4C3-C1166F48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6BCC3-8DF4-4517-9AC2-2A8582FC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BB27C-C2AC-4B4D-97E1-C1C7D3AB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4109A8-8C32-4957-BE7A-92DB96B0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2C5A8F-E2AB-4BBA-B0C8-0D62C7D5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305CA8-B9D6-47D1-9EB7-EE64D596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6FF4B-B5BD-4668-92C8-6425B40A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6C764-4F57-4CAB-A97C-C567A599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D172F2-E536-4CE1-8210-D7442D4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B2677-7DB5-4BF1-88B2-C282A542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FB8CC0-2FC9-4C03-803D-12A102B3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715B-D60C-455E-8973-D04CB81E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D5C95D-811F-42C8-A41E-44F27DA3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0889B8-8096-4B9E-A80F-A43676F5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63C8E0-58DA-4E9C-9C29-0980D4DA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E9D95E-A9B8-4A23-9765-91BB06FE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D8933D-CEF7-4FB4-A965-6191E048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48AE07-C359-45EF-9FD3-884714C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15A098-AA87-45E4-9602-C92D1672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782CDB-F618-4971-947F-9B64566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EC560A-2915-4F9C-897C-B22BBD2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30288C-381A-4211-9ED9-8FF38F0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199-3448-4089-B29C-780C4895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648A15-6D90-4971-9648-99FC9AE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CBB6FA-23CF-48C0-BB21-BB7671F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2EBEF5-7B74-4184-8300-60E346EC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B95E8D-2499-4C33-8479-15A8285A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25A51C-B72D-45EB-8362-47A8D933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DADD63-D44F-4811-A3DF-5712F427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F9435A-3F1B-42C8-9393-AC2BD5B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F090B2-AA05-455B-817B-48508F26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FC276A-89D4-4AB2-9BDF-7A5283F6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25A03C-C00F-4A11-B742-1B84DA2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0524-6AF0-49B6-B58B-0C2A576E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940B65-BF78-46D3-BD57-B5EB95E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6DBCB7-D315-47F0-9FC0-32D6BBD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1EC4C-8571-4F44-8116-EDC903C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B1C37A-2A06-4E0A-83CC-7BEA99D4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0C0EE0-FCB4-453E-A570-57FF1B4D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A3FF-20AB-46EA-8A8F-18A70D9C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1300-46D1-41DC-90CB-8CF48517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DF11-359A-4685-8700-80F0306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262D-713E-49B6-AB49-1D7A01B9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8FF-2E3B-421B-A673-62172B5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01E1-458D-40BD-94A1-7CAFE48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E7AD-04D0-4877-8FB9-F705B99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5952-3858-4B8E-A4E3-165898F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1F05-3DE2-4375-B354-9DA71EB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613-31EB-4530-A615-95B10F6F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618E-514C-43B2-8748-CAAEB5A7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25E0E-B96B-44CF-B0FB-805762D9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6D44E-1B5B-4701-B77D-B1AB5026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344DE-7C8B-4CB7-8610-9C7DD1F0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5DC68-805A-4887-B20C-34385AE2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6E6BE-9991-4B4B-BAFD-BBCB016B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4619-FD63-4800-85C3-53C8541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D4109-39E8-4F2B-B3EB-349EC884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84EA4-553D-4255-A69D-4D3BE16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5825F-7C12-4563-B9AD-17B203A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E7353-43B2-4E8D-A944-F6760C24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7E1E0-A8D0-4D00-9AC5-C6DEF9A1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35EFA-959B-4811-86B4-746E7DD8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F162A-32AC-4459-B29C-5B3A1B98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373B5-7C42-4E57-97B6-A93E8F0C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F9A87-1A2E-42DC-87AC-E6209F45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C4334-73F6-4DB1-AD1C-72468AD8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3E77-7F4D-42FC-9BE6-E501A3ED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D44CB-6FC2-468A-B401-2141AFE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2F017-136F-4A24-A61B-72FD9E79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D152C-C392-4219-A7D3-E53C8E63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C3F1B-C052-4EC1-9E07-08561784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8B9AC-C218-4343-B059-4F0C6BF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33941-13AA-4C51-BB3C-4090ABE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8DEE1-CDCA-4A81-AF95-9E8C5AF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9F479-379A-4533-8386-DDECF8A7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357DD-1DED-4358-8B25-E2007F10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070BA-D43E-4659-85BD-3767D771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9FF1-7AF8-4A27-B1A1-455682B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70B79-A117-4A10-B146-B45ED43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3E8A8-F6B1-487C-B2BC-EB84417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1B643-94F8-4AEE-AA33-EFFFFC58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BEEB2-1866-492C-BCD3-DDD9670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732AD-D507-41AE-83B3-4078229E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D6A37-23CA-4865-8378-C6D310A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A0BC6-E21E-4CBC-B0B4-AEECA413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1201B-025A-4043-B55E-B645516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C712B-E501-4E9E-A020-839A7CA2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2D124-827D-4011-9E8D-841E46D9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2AD3-5EC0-422D-9BED-583504E4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F2CF9-505A-47D4-9FA3-52241484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C83F8-24D9-4789-96DE-2D65ACB4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4D9A2-A2B3-4944-A7F0-85DCAF3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DFBFB-0AB2-46D1-B2C1-5E1646AC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A6B77-8933-4D76-95C7-F74A7499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984AF-DCD0-4BE9-BC75-4297863E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AD48A-5073-4A8D-A274-940189A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C73CD-1A5D-431E-85C5-3717B4C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7F150-8111-4DB9-94F1-2287361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7E9E2-59EC-4991-B536-C96888A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E160-CF06-4E06-931D-E78B9B0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39E4E-DCAF-479C-857D-1C8E04A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22E8A-AEBE-45A3-BD07-DA0AB8F8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B12F7-21CE-4E68-B572-7B077241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21464-5125-42F6-A218-4F496BEF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49E7B-5C37-481E-A3C4-961872E8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1309F-1ABF-4B7F-9763-FAE7001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1A18B-9EC5-42BB-A93A-BD4501F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3AB54-80B4-416A-A027-BAEECBD4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30823-1CB0-4876-9632-9856BFFE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9A045-8099-4A4E-B69E-1AFD1A8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C46D-3F83-448C-BE0D-6D43E93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38BC6-E581-40F7-B76B-AC64D94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603E6-ABCD-4348-8D00-40AB0203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AE762-0E11-45B4-B25B-89AF014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672B7-A583-468D-A702-1F98A04B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3FA04-26C5-479F-9076-89942E5F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04972-126E-44B2-BE1D-8AAD45B0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16EFE9-6452-4530-BF1B-976EFF2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5A24F-9976-4D57-A91F-220C18A9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516E4-8DD4-45EA-8102-151C58E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F98B7F-D38E-4B92-AF2E-559878CE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C2EC-9C12-4254-ADB6-CBF6561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2EA71-A98D-4B47-AA8C-14A9F34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70C1CB-9E0D-4657-8767-BC4B386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BCA8C0-0D2E-4C52-9EEF-5D2C66A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23F60-9E9B-4DE5-B68D-EB71047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9F3562-0A85-4BEC-9DA3-A05CDEF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CEB91-0BD6-46DC-B8EA-421BC91A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2D4BAB-334B-43DA-865A-2430AA27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B6492-BC30-4AD1-9EDD-916D628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6BCAA-7A0B-4BBC-9E95-54EB7A4C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E4576-F4D2-42F1-9C0F-ACD21A4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DFDF-3E96-4ADF-A9CF-7F141556A7C0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D0E8-99DC-42B9-A75D-7C409AC68886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F1E-1C4A-474C-A963-5EDEE30C1313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D2F-5C3C-4DA3-AF12-67BC60ED9C63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C0F-0584-4008-9931-52721E9D4AB1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5258-425A-4FB9-9DF0-4F49CB320BD0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4FD-C221-4E2F-BB4E-22262E9D4242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E46-AC38-452C-873C-93E83727EBAF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07FA-6B0E-4A1A-8381-285328E39076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153-4B3C-4091-9C4E-0345494B90F8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B9C9-A27B-4EAE-9CE4-F5958B3DC26A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8AF-12FC-447E-BD0A-98C3192B2329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6d32bc"/>
                </a:solidFill>
                <a:latin typeface="Jokerman"/>
              </a:rPr>
              <a:t>Božićni rap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042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11e70"/>
                </a:solidFill>
                <a:latin typeface="AR BERKLEY"/>
              </a:rPr>
              <a:t>Osnovna škola Ravne njive, Spl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8" name="Božićni rap - OŠ Ravne njive.mp3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SRETAN BOŽIĆ S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ŽELIMO VAM S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MI SA RAVNIH NJIV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SRETAN VAM BOŽIĆ I NOVA GODINA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IDEJA: prof. Zlatka Bakotić, Mia Vrdolja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3" name="Božićni rap - OŠ Ravne njive.mp4" descr=""/>
          <p:cNvPicPr/>
          <p:nvPr/>
        </p:nvPicPr>
        <p:blipFill>
          <a:blip r:embed="rId1"/>
          <a:stretch/>
        </p:blipFill>
        <p:spPr>
          <a:xfrm>
            <a:off x="1828800" y="146160"/>
            <a:ext cx="548640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750"/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750" fill="hold"/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72" fill="hold"/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7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700" fill="hold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425" fill="hold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70" fill="hold">
                                          <p:stCondLst>
                                            <p:cond delay="2425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694" fill="hold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796" fill="hold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 repeatCount="1000">
                                  <p:stCondLst>
                                    <p:cond delay="5475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215085" fill="hold"/>
                                        <p:tgtEl>
                                          <p:spTgt spid="8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3" dur="1" fill="hold"/>
                                        <p:tgtEl>
                                          <p:spTgt spid="8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 TIHOJ NOĆI, NIŠTA SE NE Č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L ZNAJ DA DIDA MRAZ VEĆ TU 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KLONI POD BO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EKAJU 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ESELE DICE ČUJE SE G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1" name="Slika 8" descr="dida.jpg"/>
          <p:cNvPicPr/>
          <p:nvPr/>
        </p:nvPicPr>
        <p:blipFill>
          <a:blip r:embed="rId1"/>
          <a:stretch/>
        </p:blipFill>
        <p:spPr>
          <a:xfrm>
            <a:off x="3143160" y="142920"/>
            <a:ext cx="2571840" cy="3832200"/>
          </a:xfrm>
          <a:prstGeom prst="rect">
            <a:avLst/>
          </a:prstGeom>
          <a:ln w="0">
            <a:noFill/>
          </a:ln>
        </p:spPr>
      </p:pic>
      <p:pic>
        <p:nvPicPr>
          <p:cNvPr id="762" name="Slika 9" descr="djevojčica.jpg"/>
          <p:cNvPicPr/>
          <p:nvPr/>
        </p:nvPicPr>
        <p:blipFill>
          <a:blip r:embed="rId2"/>
          <a:stretch/>
        </p:blipFill>
        <p:spPr>
          <a:xfrm>
            <a:off x="3143160" y="142920"/>
            <a:ext cx="2568600" cy="3929040"/>
          </a:xfrm>
          <a:prstGeom prst="rect">
            <a:avLst/>
          </a:prstGeom>
          <a:ln w="0">
            <a:noFill/>
          </a:ln>
        </p:spPr>
      </p:pic>
      <p:pic>
        <p:nvPicPr>
          <p:cNvPr id="763" name="Slika 10" descr="snig.jpg"/>
          <p:cNvPicPr/>
          <p:nvPr/>
        </p:nvPicPr>
        <p:blipFill>
          <a:blip r:embed="rId3"/>
          <a:stretch/>
        </p:blipFill>
        <p:spPr>
          <a:xfrm>
            <a:off x="1785960" y="142920"/>
            <a:ext cx="573876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2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91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11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791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KLONI, JELKE, JASLICE, KOLA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AHULJICE, ČIZM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K SVUDA LJUBAV ZRAČ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REĆA, BOŽIĆ, PRAZNICI IZ SN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NOVNO DOLAZI SRETNA N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6" name="Slika 14" descr="kruh.JPG"/>
          <p:cNvPicPr/>
          <p:nvPr/>
        </p:nvPicPr>
        <p:blipFill>
          <a:blip r:embed="rId1"/>
          <a:stretch/>
        </p:blipFill>
        <p:spPr>
          <a:xfrm>
            <a:off x="2071800" y="285840"/>
            <a:ext cx="5000400" cy="3751200"/>
          </a:xfrm>
          <a:prstGeom prst="rect">
            <a:avLst/>
          </a:prstGeom>
          <a:ln w="0">
            <a:noFill/>
          </a:ln>
        </p:spPr>
      </p:pic>
      <p:pic>
        <p:nvPicPr>
          <p:cNvPr id="767" name="Slika 15" descr="jaslice_sv_frane-1.jpg"/>
          <p:cNvPicPr/>
          <p:nvPr/>
        </p:nvPicPr>
        <p:blipFill>
          <a:blip r:embed="rId2"/>
          <a:stretch/>
        </p:blipFill>
        <p:spPr>
          <a:xfrm>
            <a:off x="1357200" y="285840"/>
            <a:ext cx="6239160" cy="3786120"/>
          </a:xfrm>
          <a:prstGeom prst="rect">
            <a:avLst/>
          </a:prstGeom>
          <a:ln w="0">
            <a:noFill/>
          </a:ln>
        </p:spPr>
      </p:pic>
      <p:pic>
        <p:nvPicPr>
          <p:cNvPr id="768" name="Slika 17" descr="ljubavv.jpg"/>
          <p:cNvPicPr/>
          <p:nvPr/>
        </p:nvPicPr>
        <p:blipFill>
          <a:blip r:embed="rId3"/>
          <a:stretch/>
        </p:blipFill>
        <p:spPr>
          <a:xfrm>
            <a:off x="1285920" y="214200"/>
            <a:ext cx="6357960" cy="3867120"/>
          </a:xfrm>
          <a:prstGeom prst="rect">
            <a:avLst/>
          </a:prstGeom>
          <a:ln w="0">
            <a:noFill/>
          </a:ln>
        </p:spPr>
      </p:pic>
      <p:pic>
        <p:nvPicPr>
          <p:cNvPr id="769" name="Slika 18" descr="kućice.jpg"/>
          <p:cNvPicPr/>
          <p:nvPr/>
        </p:nvPicPr>
        <p:blipFill>
          <a:blip r:embed="rId4"/>
          <a:stretch/>
        </p:blipFill>
        <p:spPr>
          <a:xfrm>
            <a:off x="1143000" y="214200"/>
            <a:ext cx="6858000" cy="3929040"/>
          </a:xfrm>
          <a:prstGeom prst="rect">
            <a:avLst/>
          </a:prstGeom>
          <a:ln w="0">
            <a:noFill/>
          </a:ln>
        </p:spPr>
      </p:pic>
      <p:pic>
        <p:nvPicPr>
          <p:cNvPr id="770" name="Slika 19" descr="Slika1.jpg"/>
          <p:cNvPicPr/>
          <p:nvPr/>
        </p:nvPicPr>
        <p:blipFill>
          <a:blip r:embed="rId5"/>
          <a:stretch/>
        </p:blipFill>
        <p:spPr>
          <a:xfrm>
            <a:off x="1143000" y="214200"/>
            <a:ext cx="69040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45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719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169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869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BOŽIĆ STIŽE,SVE NAM JE BLIŽ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IVAJMO GLASNO DOK NE BUDE KAS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ŠOJ PISMI NEĆE BITI KRA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VA LJUBAV NEK SVE LJUDE SPA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3" name="Slika 4" descr=""/>
          <p:cNvPicPr/>
          <p:nvPr/>
        </p:nvPicPr>
        <p:blipFill>
          <a:blip r:embed="rId1"/>
          <a:stretch/>
        </p:blipFill>
        <p:spPr>
          <a:xfrm>
            <a:off x="1714680" y="692280"/>
            <a:ext cx="5715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Slika 3" descr=""/>
          <p:cNvPicPr/>
          <p:nvPr/>
        </p:nvPicPr>
        <p:blipFill>
          <a:blip r:embed="rId2"/>
          <a:stretch/>
        </p:blipFill>
        <p:spPr>
          <a:xfrm>
            <a:off x="1184400" y="625320"/>
            <a:ext cx="67752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5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475"/>
                            </p:stCondLst>
                            <p:childTnLst>
                              <p:par>
                                <p:cTn id="1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175"/>
                            </p:stCondLst>
                            <p:childTnLst>
                              <p:par>
                                <p:cTn id="1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575"/>
                            </p:stCondLst>
                            <p:childTnLst>
                              <p:par>
                                <p:cTn id="1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50"/>
                                        <p:tgtEl>
                                          <p:spTgt spid="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SMIJEH PRUŽA, PAHULJA, GUŽ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ADAJU NA LICE SPLITSKE D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GRADOM ODJEKUJU GLASNA ZV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RETAN VAM BOŽIĆ I GODINA N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4" descr="5"/>
          <p:cNvPicPr/>
          <p:nvPr/>
        </p:nvPicPr>
        <p:blipFill>
          <a:blip r:embed="rId1"/>
          <a:stretch/>
        </p:blipFill>
        <p:spPr>
          <a:xfrm>
            <a:off x="1116000" y="189000"/>
            <a:ext cx="7032600" cy="46735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duje"/>
          <p:cNvPicPr/>
          <p:nvPr/>
        </p:nvPicPr>
        <p:blipFill>
          <a:blip r:embed="rId2"/>
          <a:stretch/>
        </p:blipFill>
        <p:spPr>
          <a:xfrm>
            <a:off x="2916360" y="189000"/>
            <a:ext cx="3382920" cy="4680000"/>
          </a:xfrm>
          <a:prstGeom prst="rect">
            <a:avLst/>
          </a:prstGeom>
          <a:ln w="0">
            <a:noFill/>
          </a:ln>
        </p:spPr>
      </p:pic>
      <p:pic>
        <p:nvPicPr>
          <p:cNvPr id="779" name="Slika 7" descr="nova.jpg"/>
          <p:cNvPicPr/>
          <p:nvPr/>
        </p:nvPicPr>
        <p:blipFill>
          <a:blip r:embed="rId3"/>
          <a:stretch/>
        </p:blipFill>
        <p:spPr>
          <a:xfrm>
            <a:off x="642960" y="142920"/>
            <a:ext cx="785160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225"/>
                            </p:stCondLst>
                            <p:childTnLst>
                              <p:par>
                                <p:cTn id="146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725"/>
                            </p:stCondLst>
                            <p:childTnLst>
                              <p:par>
                                <p:cTn id="15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KUPLJENI OKO JELKE SJEDIMO S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A DRUŠTVO MALOM ISUSU PRAVIMO 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GRLJENI, SRETNI RADUJMO SE S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 BOŽIĆNOJ NOĆI NEK VLADA MIR I SK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Slika 7" descr="jela.jpg"/>
          <p:cNvPicPr/>
          <p:nvPr/>
        </p:nvPicPr>
        <p:blipFill>
          <a:blip r:embed="rId1"/>
          <a:stretch/>
        </p:blipFill>
        <p:spPr>
          <a:xfrm>
            <a:off x="1714680" y="928800"/>
            <a:ext cx="5786280" cy="3240000"/>
          </a:xfrm>
          <a:prstGeom prst="rect">
            <a:avLst/>
          </a:prstGeom>
          <a:ln w="0">
            <a:noFill/>
          </a:ln>
        </p:spPr>
      </p:pic>
      <p:pic>
        <p:nvPicPr>
          <p:cNvPr id="783" name="Slika 8" descr="jaslice_sv_frane.jpg"/>
          <p:cNvPicPr/>
          <p:nvPr/>
        </p:nvPicPr>
        <p:blipFill>
          <a:blip r:embed="rId2"/>
          <a:stretch/>
        </p:blipFill>
        <p:spPr>
          <a:xfrm>
            <a:off x="1714680" y="428760"/>
            <a:ext cx="5786280" cy="3919320"/>
          </a:xfrm>
          <a:prstGeom prst="rect">
            <a:avLst/>
          </a:prstGeom>
          <a:ln w="0">
            <a:noFill/>
          </a:ln>
        </p:spPr>
      </p:pic>
      <p:pic>
        <p:nvPicPr>
          <p:cNvPr id="784" name="Slika 10" descr="advis.jpg"/>
          <p:cNvPicPr/>
          <p:nvPr/>
        </p:nvPicPr>
        <p:blipFill>
          <a:blip r:embed="rId3"/>
          <a:stretch/>
        </p:blipFill>
        <p:spPr>
          <a:xfrm>
            <a:off x="928800" y="423720"/>
            <a:ext cx="7072200" cy="397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28760" y="157140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HOPPING U ŽURBI „JOŠ SAMO ONAJ DA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IKA, ŽAMOR, LUDILO IZ SVIH ULI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 ZABORAVI SAMO SMISAO JE 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SMIJEH I LJUBAV, BIA STAR IL‘ M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7" name="Slika 10" descr="joker.jpg"/>
          <p:cNvPicPr/>
          <p:nvPr/>
        </p:nvPicPr>
        <p:blipFill>
          <a:blip r:embed="rId1"/>
          <a:stretch/>
        </p:blipFill>
        <p:spPr>
          <a:xfrm>
            <a:off x="1143000" y="857160"/>
            <a:ext cx="6615000" cy="3381480"/>
          </a:xfrm>
          <a:prstGeom prst="rect">
            <a:avLst/>
          </a:prstGeom>
          <a:ln w="0">
            <a:noFill/>
          </a:ln>
        </p:spPr>
      </p:pic>
      <p:pic>
        <p:nvPicPr>
          <p:cNvPr id="788" name="Slika 11" descr="marmontova.jpg"/>
          <p:cNvPicPr/>
          <p:nvPr/>
        </p:nvPicPr>
        <p:blipFill>
          <a:blip r:embed="rId2"/>
          <a:stretch/>
        </p:blipFill>
        <p:spPr>
          <a:xfrm>
            <a:off x="2857680" y="214200"/>
            <a:ext cx="2904840" cy="4000680"/>
          </a:xfrm>
          <a:prstGeom prst="rect">
            <a:avLst/>
          </a:prstGeom>
          <a:ln w="0">
            <a:noFill/>
          </a:ln>
        </p:spPr>
      </p:pic>
      <p:pic>
        <p:nvPicPr>
          <p:cNvPr id="789" name="Slika 12" descr="dide babe.jpg"/>
          <p:cNvPicPr/>
          <p:nvPr/>
        </p:nvPicPr>
        <p:blipFill>
          <a:blip r:embed="rId3"/>
          <a:stretch/>
        </p:blipFill>
        <p:spPr>
          <a:xfrm>
            <a:off x="1214280" y="214200"/>
            <a:ext cx="6429600" cy="41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28760" y="1428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ESELI POKLONI ČEKAJU 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ZBUĐENE DICE ČUJE SE G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 ZABORAVI PRUŽIT RUKU BLIŽNJEM SV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MA I ONIH KOJI NEMAJU NIKOG SV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2" name="Slika 9" descr="piće.jpg"/>
          <p:cNvPicPr/>
          <p:nvPr/>
        </p:nvPicPr>
        <p:blipFill>
          <a:blip r:embed="rId1"/>
          <a:stretch/>
        </p:blipFill>
        <p:spPr>
          <a:xfrm>
            <a:off x="1285920" y="428760"/>
            <a:ext cx="6408720" cy="3855960"/>
          </a:xfrm>
          <a:prstGeom prst="rect">
            <a:avLst/>
          </a:prstGeom>
          <a:ln w="0">
            <a:noFill/>
          </a:ln>
        </p:spPr>
      </p:pic>
      <p:pic>
        <p:nvPicPr>
          <p:cNvPr id="793" name="Slika 10" descr="dica.JPG"/>
          <p:cNvPicPr/>
          <p:nvPr/>
        </p:nvPicPr>
        <p:blipFill>
          <a:blip r:embed="rId2"/>
          <a:stretch/>
        </p:blipFill>
        <p:spPr>
          <a:xfrm>
            <a:off x="1285920" y="214200"/>
            <a:ext cx="6429240" cy="4137120"/>
          </a:xfrm>
          <a:prstGeom prst="rect">
            <a:avLst/>
          </a:prstGeom>
          <a:ln w="0">
            <a:noFill/>
          </a:ln>
        </p:spPr>
      </p:pic>
      <p:pic>
        <p:nvPicPr>
          <p:cNvPr id="794" name="Slika 1" descr=""/>
          <p:cNvPicPr/>
          <p:nvPr/>
        </p:nvPicPr>
        <p:blipFill>
          <a:blip r:embed="rId3"/>
          <a:stretch/>
        </p:blipFill>
        <p:spPr>
          <a:xfrm>
            <a:off x="1276200" y="214200"/>
            <a:ext cx="6427800" cy="4257720"/>
          </a:xfrm>
          <a:prstGeom prst="rect">
            <a:avLst/>
          </a:prstGeom>
          <a:ln w="0">
            <a:noFill/>
          </a:ln>
        </p:spPr>
      </p:pic>
      <p:pic>
        <p:nvPicPr>
          <p:cNvPr id="795" name="Slika 2" descr=""/>
          <p:cNvPicPr/>
          <p:nvPr/>
        </p:nvPicPr>
        <p:blipFill>
          <a:blip r:embed="rId4"/>
          <a:stretch/>
        </p:blipFill>
        <p:spPr>
          <a:xfrm>
            <a:off x="826920" y="209520"/>
            <a:ext cx="749016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425"/>
                            </p:stCondLst>
                            <p:childTnLst>
                              <p:par>
                                <p:cTn id="2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475"/>
                            </p:stCondLst>
                            <p:childTnLst>
                              <p:par>
                                <p:cTn id="2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975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LJUBAV SE JEDINO MNOŽI DIJELJE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TO NE ŠTEDI SVOJE ENERG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A SVIMA PODIJELI SVE ŠTO MOŽE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A BOŽIĆ SVIMA NA DOBRO DOĐ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8" name="Slika 3" descr=""/>
          <p:cNvPicPr/>
          <p:nvPr/>
        </p:nvPicPr>
        <p:blipFill>
          <a:blip r:embed="rId1"/>
          <a:stretch/>
        </p:blipFill>
        <p:spPr>
          <a:xfrm>
            <a:off x="1547640" y="290520"/>
            <a:ext cx="5740560" cy="4305240"/>
          </a:xfrm>
          <a:prstGeom prst="rect">
            <a:avLst/>
          </a:prstGeom>
          <a:ln w="0">
            <a:noFill/>
          </a:ln>
        </p:spPr>
      </p:pic>
      <p:pic>
        <p:nvPicPr>
          <p:cNvPr id="799" name="Slika 5" descr=""/>
          <p:cNvPicPr/>
          <p:nvPr/>
        </p:nvPicPr>
        <p:blipFill>
          <a:blip r:embed="rId2"/>
          <a:stretch/>
        </p:blipFill>
        <p:spPr>
          <a:xfrm>
            <a:off x="1547640" y="290520"/>
            <a:ext cx="5747040" cy="4309920"/>
          </a:xfrm>
          <a:prstGeom prst="rect">
            <a:avLst/>
          </a:prstGeom>
          <a:ln w="0">
            <a:noFill/>
          </a:ln>
        </p:spPr>
      </p:pic>
      <p:pic>
        <p:nvPicPr>
          <p:cNvPr id="800" name="Slika 6" descr=""/>
          <p:cNvPicPr/>
          <p:nvPr/>
        </p:nvPicPr>
        <p:blipFill>
          <a:blip r:embed="rId3"/>
          <a:stretch/>
        </p:blipFill>
        <p:spPr>
          <a:xfrm>
            <a:off x="1450800" y="146160"/>
            <a:ext cx="5934240" cy="44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50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305" nodeType="afterEffect" fill="hold" presetClass="entr" presetID="10" repeatCount="1000">
                                  <p:stCondLst>
                                    <p:cond delay="925"/>
                                  </p:stCondLst>
                                  <p:iterate type="lt">
                                    <p:tmAbs val="69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690"/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915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50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21:59:14Z</dcterms:created>
  <dc:creator>Dijana</dc:creator>
  <dc:description/>
  <dc:language>en-US</dc:language>
  <cp:lastModifiedBy>BIBLIOTEKA2</cp:lastModifiedBy>
  <dcterms:modified xsi:type="dcterms:W3CDTF">2015-12-10T15:37:18Z</dcterms:modified>
  <cp:revision>48</cp:revision>
  <dc:subject/>
  <dc:title>Božićni rap</dc:title>
</cp:coreProperties>
</file>